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B551-C965-4E6E-B0C6-B7C7244D12C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C3A6-7AAE-47D1-8709-A9E5B6455A7F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4128-D154-4E09-B9D9-FEE866827DD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B87B-BDA6-4A71-AEDA-F18508727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A3A6-A647-468A-BBB1-8594C9BB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7CA7-C8D3-491B-BF18-D436368F0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49F4-A07D-47A9-9C65-A2363138A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606A-6855-4070-A18E-397394AE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B965-8AB9-43CF-89E0-5AD04B2E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40F6-3B6E-4B0A-B116-43935CDB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D4E6-EB55-4263-8AF6-412756EA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6DA8-CD17-4DA9-9DA6-A4FB2F10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4064-3AFD-415C-85E9-A7A8300E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811E-612C-48D1-AA8D-0205FE25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EFE3-27FD-4416-BA41-B23D3995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4B0D-B365-486B-B84F-848D3D39FCB5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그림 1" descr=""/>
          <p:cNvPicPr/>
          <p:nvPr/>
        </p:nvPicPr>
        <p:blipFill>
          <a:blip r:embed="rId1"/>
          <a:stretch/>
        </p:blipFill>
        <p:spPr>
          <a:xfrm>
            <a:off x="5880240" y="1225440"/>
            <a:ext cx="2477880" cy="4619880"/>
          </a:xfrm>
          <a:prstGeom prst="rect">
            <a:avLst/>
          </a:prstGeom>
          <a:ln w="0">
            <a:noFill/>
          </a:ln>
        </p:spPr>
      </p:pic>
      <p:pic>
        <p:nvPicPr>
          <p:cNvPr id="62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3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5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직사각형 29"/>
          <p:cNvSpPr/>
          <p:nvPr/>
        </p:nvSpPr>
        <p:spPr>
          <a:xfrm>
            <a:off x="0" y="422280"/>
            <a:ext cx="4406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69920" y="996840"/>
            <a:ext cx="4533840" cy="31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- 435*316*113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1.5</a:t>
            </a: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층 침대용 철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BODY : 15x35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20x20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사각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/ 1.6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직선 연결선 32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33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LADDER &lt;DIL3004B-1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인용 사다리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선 연결선 34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사각형 3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1:16Z</dcterms:modified>
  <cp:revision>254</cp:revision>
  <dc:subject/>
  <dc:title>슬라이드 1</dc:title>
</cp:coreProperties>
</file>